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765-0BA0-4993-B560-38F8BCD6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422-6AAC-4D4B-8A0D-00F3355B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800-7F37-4C59-85D7-7F90A5DC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3B0-62AA-460F-AB29-4D316F99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6C9-3C22-43E2-9C4D-20CFAAE5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FBA-C9DD-4536-9EBF-F32F59CE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A81-4A95-4F11-86EA-8632733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B40-4110-4CE7-BE96-B2788E7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A17-0798-4D71-BA6C-8EE5B68A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77D-117C-48AC-93C6-F664CF3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4C6-FE1E-40FE-8FF7-41AA0AA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6D2-4A35-4DE0-9772-0295972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C80B2-E855-4FF0-A3DD-F9EFDB338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B39CA-42E3-465C-AC30-C85545D6A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3520"/>
            <a:ext cx="77724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king Advisors for GEO Applications Proposals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king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040" y="966600"/>
            <a:ext cx="84232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rence Friedl came to the Federation seeking support for his pr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articular, he was soliciting interest in a GEO progra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Earth Observations in Decision Support Projects". (see next slide)  The call went out and over 200 proposals came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ecifically, Lawrence is seeking Federation members "interested in serving as advisors to project team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ly, this is not new to the Federation, and in fact several ESIPs are already involved as proposers or consultants, thanks to Carol’s earlier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Funding for the selected projects will not be directly available from GEO; instead, GEO will attempt to match projects, particularly those focused on developing countries, with resource-providing organizations.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GEO will also connect project teams with organizations and advisors who can provide expertise on Earth observat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ow can the Federation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ederation partners are in an excellent position, because of their vast and wide ranging knowledge about Earth science data, to support this effort as advi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provides potential outlets for ESIPs to expand the uses of their data and services, not to speak of their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do believe if their is effort required to facilitate the use of ESIP member data/services, or if effort to advise becomes more substantial than casual, it is possible to request funding for these efforts, associated with the particular project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put the ESIP Federation name out there in a prominent organization, providing pertinen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 (not The)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if this makes sense, if y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it work that Carol others have done in soliciting this in the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te a cluster to discuss strategies on how to be maximize Federation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list of proposers:  Determine which are best matches to interested ESIPs and ESIP expertise; How can we support each project and perhaps even determine ways in which each project can be more successful, in both their goals and attracting fu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ll for proposals (CF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The Group on Earth Observations has issued a Call for Proposals (CFP) inviting organizations to propose or participate in projects that app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th observations to decision support activities. Managed by the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User Interface committees, this CFP seeks to promote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al application of Earth observations for improved decision making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highlight specific examples of how Earth observations can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Key aim of the CFP are to support end users in developing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itted to applying Earth observations and to demonstrate the benefits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th observation applications to end users in these countries. The CFP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s to identify individuals and organizations interested in serving 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isors to project teams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7:53:47Z</dcterms:created>
  <dc:creator>Steve Kempler</dc:creator>
  <dc:description/>
  <dc:language>en-US</dc:language>
  <cp:lastModifiedBy>Steve Kempler</cp:lastModifiedBy>
  <dcterms:modified xsi:type="dcterms:W3CDTF">2010-03-03T22:38:19Z</dcterms:modified>
  <cp:revision>3</cp:revision>
  <dc:subject/>
  <dc:title>Seeking Advisors for GEO Applications Proposals Talking Points</dc:title>
</cp:coreProperties>
</file>